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58C2-B48D-4D69-BB8A-B560B1FA3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E83-274A-47B3-9CC2-2674F5E2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EFD6-54DC-4A33-AA50-098B0A4F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D44-4409-4719-8EC9-88A89DF8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98B-0491-4423-A41F-EA0D06B2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58A-B3AB-4067-89A4-EC6F0F1B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512-E29F-473C-A764-8E50736A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E7E4-398D-4768-8AE9-4C879E01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178920"/>
            <a:ext cx="7378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1C0-2E60-4920-8F5A-C1D87612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37D4-7806-4114-9658-82ED71AE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D65-D935-4157-96D8-0389D67D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64E-1504-4C04-BA11-0390B7E3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178920"/>
            <a:ext cx="737856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tstream Vera San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1" marL="863640" indent="-2872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2" marL="129528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3" marL="17272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4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5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  <a:p>
            <a:pPr lvl="6" marL="2158920" indent="-215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64280" y="6858000"/>
            <a:ext cx="211464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00360" y="6886080"/>
            <a:ext cx="233856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C48BA-09EF-4CA7-945D-DA63B8DA6CAF}" type="slidenum"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2360" y="1332000"/>
            <a:ext cx="50148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c2300"/>
                </a:solidFill>
                <a:latin typeface="Arial"/>
              </a:rPr>
              <a:t>DESARROLLO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c2300"/>
                </a:solidFill>
                <a:latin typeface="Arial"/>
              </a:rPr>
              <a:t>EN JAVA EE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44480" y="1420920"/>
            <a:ext cx="600120" cy="69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475840" y="1330200"/>
            <a:ext cx="812520" cy="86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87560" y="3317760"/>
            <a:ext cx="43135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ándar para administrar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ucción de Softwa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27280" y="5940360"/>
            <a:ext cx="3364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drigo López - CincoSoft Lt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