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AE4-F5C4-42D1-891D-32CC793B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A3F-FB68-4447-A756-25F47A33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1AA-635F-46A4-A151-DBAD2D76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ACF-8F85-4B3A-9401-B9EC21CC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15B-FFC8-4691-8EEA-64DEEC10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09F-CA40-40E9-B530-E442B6CD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69E-412D-4E72-87F7-D8904EE0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954-DFE9-4710-A6E4-0E403DCE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178920"/>
            <a:ext cx="7378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824-0789-4D1B-8A1E-8AA52303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FD3-95C3-4EEE-ABB2-7C038D50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0F5-A789-461F-8F51-3B71C285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347-A067-4E46-8BE5-7A1E8C16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tstream Vera San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64280" y="6858000"/>
            <a:ext cx="211464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00360" y="688608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5C40C-2642-4614-8325-CA35F7D0B4FE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2360" y="1332000"/>
            <a:ext cx="50148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dc2300"/>
                </a:solidFill>
                <a:latin typeface="Arial"/>
              </a:rPr>
              <a:t>DESARROLLO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dc2300"/>
                </a:solidFill>
                <a:latin typeface="Arial"/>
              </a:rPr>
              <a:t>EN JAVA E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44480" y="1420920"/>
            <a:ext cx="600120" cy="69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475840" y="1330200"/>
            <a:ext cx="812520" cy="8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87560" y="3317760"/>
            <a:ext cx="43135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ándar para administrar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ucción de Softwa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27280" y="5940360"/>
            <a:ext cx="336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drigo López - CincoSoft Lt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